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1F6-5B2E-4CA3-A0D5-52589CF4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673-E5E1-470C-BE32-E49D2071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AED-5FFE-4713-8A84-87690D81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F42-6134-4753-B04A-16D34154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00E-3CB6-4687-9ACE-8A648F16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BEB-8676-4219-9CDA-E165C5F1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53D-27EC-46D8-88D4-827948C0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EBE-B0B7-4BB4-B4C7-B52A0584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9B4-83E0-4EFC-B0F2-1AA4C210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0BD-7370-4839-99BB-412B61F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5A8-0B30-4C2E-96E4-EC8A2B2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87A-8C60-4F85-8DC6-4945A87E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B4CD-F785-4364-AB52-231D48782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333360"/>
            <a:ext cx="822960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Ez az a nap, ez az a na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Mit az Úr szerzett, mit az Úr szerzett.  2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Örvendjünk, vigadjunk e nap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Örvendjünk, vigadjunk e nap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Mert ez az a nap, ez az a nap, mit az Úr szerzet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1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Jézus az Úr, jézus az Ú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Akit szolgálunk, akit szolgálunk.  2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Szolgáljuk hűséggel szent nevé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Szolgáljuk hűséggel szent nevé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Mert Jézus az Úr, Jézus az Úr, akit szolgálun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87480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Eljön az Úr, eljön az Ú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Akit úgy várunk, akit úgy várunk.  2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Egy szívvel mondjuk, hogy jöjj vissza má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Egy szívvel mondjuk, hogy jöjj vissza má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Jövel Uram, jövel Uram, jövel, Úr Jézu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7:57:23Z</dcterms:created>
  <dc:creator>Balázs</dc:creator>
  <dc:description/>
  <dc:language>en-US</dc:language>
  <cp:lastModifiedBy>Balázs</cp:lastModifiedBy>
  <dcterms:modified xsi:type="dcterms:W3CDTF">2008-01-24T13:43:08Z</dcterms:modified>
  <cp:revision>3</cp:revision>
  <dc:subject/>
  <dc:title>1. dia</dc:title>
</cp:coreProperties>
</file>